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7C1-7F0A-44A0-998E-256FC8E1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C58-A200-4FDA-9489-41165802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B49-77DA-481F-AE07-7D24BD10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461B-9E03-4879-B2C8-34C0128B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2F47-C749-45E4-A62E-77856916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AC4-BB35-4207-A95D-E377626C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5E8-23EA-4A6A-B9B2-881AE48D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5E4-816C-4156-9A54-7D9787A8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DC3-115A-45D6-8E3D-7ED4422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847-C8FB-475A-850E-0340504B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6A9-B180-4604-94A1-67AE68C6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7F3-20DA-4BDC-9DF3-F8EA16C5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D244-65B6-4FF5-8143-3807B8A9B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you carry God’s Wisdo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peak forth God’s W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embody God’s Pres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ver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9:47Z</dcterms:created>
  <dc:creator>Anon Anon</dc:creator>
  <dc:description/>
  <dc:language>en-US</dc:language>
  <cp:lastModifiedBy>Anon Anon</cp:lastModifiedBy>
  <dcterms:modified xsi:type="dcterms:W3CDTF">2005-08-09T05:27:25Z</dcterms:modified>
  <cp:revision>7</cp:revision>
  <dc:subject/>
  <dc:title>PowerPoint Presentation</dc:title>
</cp:coreProperties>
</file>